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CFC-B904-41C5-9033-78B1D413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0CB-CA37-4A38-8CB6-F383F51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94B-6F09-4323-8AEB-300C4C05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C57-B3CD-472B-AC74-B52109BC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E39-AAF7-4DCE-8DBE-BD93763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C9B-3938-4E1C-8C0B-B9DF998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78B-7B3A-43CF-B49A-DB8518B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298-0CDB-4945-BC93-BC92DF9A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C41-E72C-4752-B529-757F7B45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BAB-91EB-4611-AFA1-204CD4F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AC9-409C-42D9-8048-1FDAB366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B85-BF45-4554-B215-C351A79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97B-EB9A-4E99-902D-611F2482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d_Scare" TargetMode="External"/><Relationship Id="rId2" Type="http://schemas.openxmlformats.org/officeDocument/2006/relationships/hyperlink" Target="http://en.wikipedia.org/wiki/Red_Scar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http://rds.yahoo.com/S=96062883/K=Cold+War/v=2/SID=e/TID=I001_70/l=IVS/SIG=12b80gqlr/EXP=1105739405/*-http%3A//www.mr.nava.teach-nology.com/images/cold_war.jpg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510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http://rds.yahoo.com/S=96062883/K=Crucible/v=2/SID=e/TID=I001_70/l=IVS/SIG=12eoeum60/EXP=1105739800/*-http%3A//barntheater.porterville.com/images/2003crucible.jpg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WordArt 17"/>
          <p:cNvSpPr txBox="1"/>
          <p:nvPr/>
        </p:nvSpPr>
        <p:spPr>
          <a:xfrm>
            <a:off x="2514600" y="6858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Times New Roman"/>
              </a:rPr>
              <a:t>Connecting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rds.yahoo.com/S=96062883/K=Sting/v=2/SID=e/TID=I001_70/l=IVS/SIG=12a7o0rh0/EXP=1105742718/*-http%3A//www.swr3.de/musik/stories/sting/pix/sting_1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0" y="380880"/>
            <a:ext cx="39625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Russians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0" y="34290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Europe and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’s a growing feeling of hys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nditioned to respond to all the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e rhetorical speeches of the Sovi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r. Khrushchev said, “We will bury you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 don’t subscribe to this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t would be such an ignorant thing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f the Russians love their children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http://rds.yahoo.com/S=96062883/K=Sting/v=2/SID=e/TID=I001_70/l=IVS/SIG=12e4agrvp/EXP=1106343493/*-http%3A//www.yehey.com/local/entertainment/images/Sting1.JPG"/>
          <p:cNvPicPr/>
          <p:nvPr/>
        </p:nvPicPr>
        <p:blipFill>
          <a:blip r:embed="rId1"/>
          <a:stretch/>
        </p:blipFill>
        <p:spPr>
          <a:xfrm>
            <a:off x="-380880" y="-380880"/>
            <a:ext cx="9524880" cy="807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1066680"/>
            <a:ext cx="6934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w can I save my little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Oppenheimer’s deadly t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re is no monopoly of common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 either side of the political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share the sam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gardless of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elieve me when I say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 hope the Russians love their children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27" descr="http://rds.yahoo.com/S=96062883/K=Ronald+Reagan/v=2/SID=e/TID=I001_70/l=IVS/SIG=12av67ro9/EXP=1106344373/*-http%3A//teachpol.tcnj.edu/Amer_pol_hist/fi/000001ee.jpg"/>
          <p:cNvPicPr/>
          <p:nvPr/>
        </p:nvPicPr>
        <p:blipFill>
          <a:blip r:embed="rId2"/>
          <a:stretch/>
        </p:blipFill>
        <p:spPr>
          <a:xfrm>
            <a:off x="0" y="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1" descr="http://rds.yahoo.com/S=96062883/K=Krushchev/v=2/SID=e/TID=I001_70/l=IVS/SIG=1217dsb12/EXP=1106344525/*-http%3A//wwics.si.edu/news/images/krushchev.jpg"/>
          <p:cNvPicPr/>
          <p:nvPr/>
        </p:nvPicPr>
        <p:blipFill>
          <a:blip r:embed="rId3"/>
          <a:stretch/>
        </p:blipFill>
        <p:spPr>
          <a:xfrm>
            <a:off x="0" y="3276720"/>
            <a:ext cx="304812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3557880" y="547560"/>
            <a:ext cx="5555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re is no historical prece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put the words in the mou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of th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re’s no such 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As a winnabl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t’s a lie we don’t believe any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r. Reagan say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We will protect yo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 don’t subscribe to this point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Believe me when I say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I hope the Russians l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heir children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http://rds.yahoo.com/S=96062883/K=russian+flag/v=2/SID=e/TID=I001_70/l=IVS/SIG=12hq6np2a/EXP=1106345128/*-http%3A//nonushotties.8k.com/images/main/old_russian%20flag.jpg"/>
          <p:cNvPicPr/>
          <p:nvPr/>
        </p:nvPicPr>
        <p:blipFill>
          <a:blip r:embed="rId1"/>
          <a:stretch/>
        </p:blipFill>
        <p:spPr>
          <a:xfrm>
            <a:off x="5486400" y="457200"/>
            <a:ext cx="293364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rds.yahoo.com/S=96062883/K=United+States+flag/v=2/SID=e/TID=I001_70/l=IVS/SIG=12g5889b1/EXP=1106345167/*-http%3A//www.walshworld.net/images/united_states_flag_1024.jpg"/>
          <p:cNvPicPr/>
          <p:nvPr/>
        </p:nvPicPr>
        <p:blipFill>
          <a:blip r:embed="rId2"/>
          <a:stretch/>
        </p:blipFill>
        <p:spPr>
          <a:xfrm>
            <a:off x="228600" y="2133720"/>
            <a:ext cx="320040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65040" y="345960"/>
            <a:ext cx="512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We share the sam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Regardless of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495680" y="2590920"/>
            <a:ext cx="428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NJAMIN"/>
              </a:rPr>
              <a:t>What might save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NJAMIN"/>
              </a:rPr>
              <a:t>me, and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06200" y="4714920"/>
            <a:ext cx="73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Stencil"/>
              </a:rPr>
              <a:t>Is That the Russian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Stencil"/>
              </a:rPr>
              <a:t>their children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trial"/>
          <p:cNvPicPr/>
          <p:nvPr/>
        </p:nvPicPr>
        <p:blipFill>
          <a:blip r:embed="rId1"/>
          <a:stretch/>
        </p:blipFill>
        <p:spPr>
          <a:xfrm>
            <a:off x="380880" y="205740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609480" y="22860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1692 Salem Witch Trial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9" descr="Memorial Stone Bench for Sarah Good"/>
          <p:cNvPicPr/>
          <p:nvPr/>
        </p:nvPicPr>
        <p:blipFill>
          <a:blip r:embed="rId2"/>
          <a:stretch/>
        </p:blipFill>
        <p:spPr>
          <a:xfrm>
            <a:off x="5410080" y="2057400"/>
            <a:ext cx="3143520" cy="2000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815000" y="4335480"/>
            <a:ext cx="455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This is the basis for Arth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Miller’s screenplay, </a:t>
            </a:r>
            <a:r>
              <a:rPr b="0" i="1" lang="en-US" sz="2800" spc="-1" strike="noStrike">
                <a:solidFill>
                  <a:srgbClr val="ffffff"/>
                </a:solidFill>
                <a:latin typeface="Rockwell Condensed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Rockwell Condensed"/>
              </a:rPr>
              <a:t>Crucible</a:t>
            </a: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. Who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Condensed"/>
              </a:rPr>
              <a:t>executed, why?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artsgloucester.com/witchcity/graphics/no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0" y="923760"/>
            <a:ext cx="9058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In what year did the Salem Witch Trials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was the first individual execu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were executed? Ki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were j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did this hysteria beg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could an accused “witch” escape exec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provided legal representation for the acc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many confessed to witchcraft? What was the result of these confess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Identify irony on p. 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How was wealth determined in Sa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at do “Goody” and “Goodman”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o attended the hang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Roughly what percentage of Puritans were lite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y wouldn’t the Puritans offer help to those in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ranklin Gothic Medium"/>
              </a:rPr>
              <a:t>What was the result of not help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28600" y="22860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"A Deadly Gam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rds.yahoo.com/S=96062883/K=dictionary/v=2/SID=e/l=IVS/SIG=12skg66p9/EXP=1106749223/*-http%3A//www.musclecarclub.com/library/dictionary/images/dictionary-1a.jpg"/>
          <p:cNvPicPr/>
          <p:nvPr/>
        </p:nvPicPr>
        <p:blipFill>
          <a:blip r:embed="rId1"/>
          <a:stretch/>
        </p:blipFill>
        <p:spPr>
          <a:xfrm>
            <a:off x="-281952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257800" y="6094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cabul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246200" y="1793880"/>
            <a:ext cx="510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djec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apart from concr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ce; theore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g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presentation of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or principles by charac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277920"/>
            <a:ext cx="13007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Why wa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The Crucibl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Arial Unicode MS"/>
              </a:rPr>
              <a:t> writ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written by Arthur Mille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 as an allegory for McCarthyism or the 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(second)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Red S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iller felt 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nvictions to McCarthyism as a resul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multitude of events that happened in his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ing to point out to the world the amaz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between the unjust Salem Witch Trial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2 and the (second)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Red S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1948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6, Miller wr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ak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 statement about the dangers of hys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dehumanization that can resu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52280" y="53352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Did you know?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52280" y="2286000"/>
            <a:ext cx="2971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Miller wa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married to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legendary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5000"/>
                    </a:srgbClr>
                  </a:outerShdw>
                </a:effectLst>
                <a:latin typeface="Arial Black"/>
              </a:rPr>
              <a:t>actress.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Picture 5" descr="http://rds.yahoo.com/S=96062883/K=Marilyn+Monroe/v=2/SID=e/l=IVS/SIG=132sh5mfd/EXP=1106744435/*-http%3A//sio.midco.net/dentsamongus/WhyNot/_borders/wallpaper_marilyn_monroe.jpg"/>
          <p:cNvPicPr/>
          <p:nvPr/>
        </p:nvPicPr>
        <p:blipFill>
          <a:blip r:embed="rId1"/>
          <a:stretch/>
        </p:blipFill>
        <p:spPr>
          <a:xfrm>
            <a:off x="4846680" y="353880"/>
            <a:ext cx="4297320" cy="65041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09480" y="5181480"/>
            <a:ext cx="3429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Marilyn Monro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800" y="762120"/>
            <a:ext cx="903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McCarthyism, the United States was terrified of Communism'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uence. Like the witches, communists were seen ingrained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aspect of society. Miller was sent to jail for with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from the court, namely the names of those as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communists. Many of Miller’s peers fearing the wrath of the cou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names of suspected communists in an attempt to s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sel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http://rds.yahoo.com/S=96062883/K=Jail+bars/v=2/SID=e/l=IVS/SIG=126n0120t/EXP=1106745951/*-http%3A//www.bazelon.org/images/1-27-03jailhands.jpg"/>
          <p:cNvPicPr/>
          <p:nvPr/>
        </p:nvPicPr>
        <p:blipFill>
          <a:blip r:embed="rId1"/>
          <a:stretch/>
        </p:blipFill>
        <p:spPr>
          <a:xfrm>
            <a:off x="4114800" y="33526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rds.yahoo.com/S=96062883/K=Jail+bars/v=2/SID=e/l=IVS/SIG=124o2h5j5/EXP=1106746143/*-http%3A//media.graytvinc.com/images/jail+bars1.jpg"/>
          <p:cNvPicPr/>
          <p:nvPr/>
        </p:nvPicPr>
        <p:blipFill>
          <a:blip r:embed="rId2"/>
          <a:stretch/>
        </p:blipFill>
        <p:spPr>
          <a:xfrm>
            <a:off x="304920" y="365760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666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71720" y="2287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457200" y="609480"/>
            <a:ext cx="5200560" cy="2282760"/>
            <a:chOff x="457200" y="609480"/>
            <a:chExt cx="5200560" cy="2282760"/>
          </a:xfrm>
        </p:grpSpPr>
        <p:sp>
          <p:nvSpPr>
            <p:cNvPr id="66" name="Rectangle 4"/>
            <p:cNvSpPr/>
            <p:nvPr/>
          </p:nvSpPr>
          <p:spPr>
            <a:xfrm>
              <a:off x="457200" y="609480"/>
              <a:ext cx="52005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457200" y="609480"/>
              <a:ext cx="520056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cCarthy's power to stir fears of creeping Communism was not entirely based on illusion, of course; the paranoid, real or pretended, always secretes its pearl around a grain of fact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-Arthur Mill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7"/>
          <p:cNvSpPr/>
          <p:nvPr/>
        </p:nvSpPr>
        <p:spPr>
          <a:xfrm>
            <a:off x="1971720" y="1557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457200" y="3114720"/>
            <a:ext cx="5200560" cy="3362400"/>
            <a:chOff x="457200" y="3114720"/>
            <a:chExt cx="5200560" cy="3362400"/>
          </a:xfrm>
        </p:grpSpPr>
        <p:sp>
          <p:nvSpPr>
            <p:cNvPr id="70" name="Rectangle 8"/>
            <p:cNvSpPr/>
            <p:nvPr/>
          </p:nvSpPr>
          <p:spPr>
            <a:xfrm>
              <a:off x="457200" y="3114720"/>
              <a:ext cx="52005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457200" y="3114720"/>
              <a:ext cx="5200560" cy="336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McCarthy—brash and ill-mannered but to many authentic and true—boiled it all down to what anyone could understand: we had "lost China" and would soon lose Europe as well, because the State Department—staffed, of course, under Democratic Presidents—was full of treasonous pro-Soviet intellectuals. It was as simple as that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Arthur Mi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16" descr="http://rds.yahoo.com/S=96062883/K=Arthur+Miller/v=2/SID=e/TID=I001_70/l=IVS/SIG=12jpub90e/EXP=1105741541/*-http%3A//www.roundabouttheatre.org/fc/summer02/images/miller1.jpg"/>
          <p:cNvPicPr/>
          <p:nvPr/>
        </p:nvPicPr>
        <p:blipFill>
          <a:blip r:embed="rId1"/>
          <a:stretch/>
        </p:blipFill>
        <p:spPr>
          <a:xfrm>
            <a:off x="5791320" y="685800"/>
            <a:ext cx="2949480" cy="518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7"/>
          <p:cNvSpPr/>
          <p:nvPr/>
        </p:nvSpPr>
        <p:spPr>
          <a:xfrm>
            <a:off x="6249960" y="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Mi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6324480" y="5638680"/>
            <a:ext cx="21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a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http://rds.yahoo.com/S=96062883/K=dictionary/v=2/SID=e/l=IVS/SIG=12e04gac1/EXP=1106749731/*-http%3A//www.indianahistory.org/lhs/images/OC-Dictionary.jpg"/>
          <p:cNvPicPr/>
          <p:nvPr/>
        </p:nvPicPr>
        <p:blipFill>
          <a:blip r:embed="rId1"/>
          <a:stretch/>
        </p:blipFill>
        <p:spPr>
          <a:xfrm>
            <a:off x="0" y="685800"/>
            <a:ext cx="3733920" cy="581832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4572000" y="5335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cabul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093200" y="1793880"/>
            <a:ext cx="477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doctrines or beliefs tha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of a political, economic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enhe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Proper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physicist who directed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mos, New Mexico, labora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development of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bo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 or instance that 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example in dealing with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3:18:16Z</dcterms:created>
  <dc:creator>Administrator</dc:creator>
  <dc:description/>
  <dc:language>en-US</dc:language>
  <cp:lastModifiedBy>Teacher</cp:lastModifiedBy>
  <dcterms:modified xsi:type="dcterms:W3CDTF">2009-09-21T00:22:36Z</dcterms:modified>
  <cp:revision>13</cp:revision>
  <dc:subject/>
  <dc:title>PowerPoint Presentation</dc:title>
</cp:coreProperties>
</file>